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411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0600" y="5610240"/>
            <a:ext cx="411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00600" y="561024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909120" y="561024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92000" y="449532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83400" y="449532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00600" y="561024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6192000" y="561024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583400" y="561024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800600" y="44953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00600" y="561024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800600" y="44953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909120" y="561024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600" y="5610240"/>
            <a:ext cx="411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411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600" y="5610240"/>
            <a:ext cx="411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00600" y="561024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909120" y="561024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192000" y="449532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83400" y="449532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0600" y="561024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6192000" y="561024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7583400" y="5610240"/>
            <a:ext cx="132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116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800600" y="561024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9120" y="561024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0060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909120" y="4495320"/>
            <a:ext cx="2007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0600" y="5610240"/>
            <a:ext cx="41148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1460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0600" y="4495320"/>
            <a:ext cx="4114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167760" indent="-16776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67760" indent="-1677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7760" indent="-16776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167760" indent="-16776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167760" indent="-16776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167760" indent="-16776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143000"/>
            <a:ext cx="8458200" cy="266688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AUXILIAR   PREPARATORIA PARA CONTROL 2</a:t>
            </a:r>
            <a:endParaRPr b="1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4876920"/>
            <a:ext cx="2590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reto Tamb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colás Fr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J. Patricio Br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ook Antiqua"/>
              </a:rPr>
              <a:t>PREGUNTA 1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ook Antiqua"/>
              </a:rPr>
              <a:t>FLUJO DE CAJA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3023" t="24696" r="11999" b="28772"/>
          <a:stretch/>
        </p:blipFill>
        <p:spPr>
          <a:xfrm>
            <a:off x="380880" y="1523880"/>
            <a:ext cx="8458200" cy="403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ook Antiqua"/>
              </a:rPr>
              <a:t>CUOTA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17998" t="46003" r="49001" b="40667"/>
          <a:stretch/>
        </p:blipFill>
        <p:spPr>
          <a:xfrm>
            <a:off x="838080" y="3809880"/>
            <a:ext cx="7315200" cy="2216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71800" y="1447920"/>
            <a:ext cx="342900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ortización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= 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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D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-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I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ook Antiqua"/>
              </a:rPr>
              <a:t>PREGUNTA 2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ook Antiqua"/>
              </a:rPr>
              <a:t>INDICADOR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023" t="26019" r="19954" b="60675"/>
          <a:stretch/>
        </p:blipFill>
        <p:spPr>
          <a:xfrm>
            <a:off x="380880" y="3124080"/>
            <a:ext cx="853452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Book Antiqua"/>
              </a:rPr>
              <a:t>INDICADORES</a:t>
            </a:r>
            <a:endParaRPr b="1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3023" t="26019" r="19954" b="60675"/>
          <a:stretch/>
        </p:blipFill>
        <p:spPr>
          <a:xfrm>
            <a:off x="380880" y="3124080"/>
            <a:ext cx="853452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5486400" y="1905120"/>
            <a:ext cx="2743200" cy="761760"/>
          </a:xfrm>
          <a:prstGeom prst="wedgeRoundRectCallout">
            <a:avLst>
              <a:gd name="adj1" fmla="val -69675"/>
              <a:gd name="adj2" fmla="val 219583"/>
              <a:gd name="adj3" fmla="val 16667"/>
            </a:avLst>
          </a:prstGeom>
          <a:solidFill>
            <a:srgbClr val="4002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iquidar e Reinvertir: Máx Ba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905120"/>
            <a:ext cx="2667240" cy="838080"/>
          </a:xfrm>
          <a:prstGeom prst="wedgeRoundRectCallout">
            <a:avLst>
              <a:gd name="adj1" fmla="val 44226"/>
              <a:gd name="adj2" fmla="val 224430"/>
              <a:gd name="adj3" fmla="val 16667"/>
            </a:avLst>
          </a:prstGeom>
          <a:solidFill>
            <a:srgbClr val="4002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iquidar y Olvidarse: Máx VPN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257800"/>
            <a:ext cx="2971800" cy="838080"/>
          </a:xfrm>
          <a:prstGeom prst="wedgeRoundRectCallout">
            <a:avLst>
              <a:gd name="adj1" fmla="val -74092"/>
              <a:gd name="adj2" fmla="val -124620"/>
              <a:gd name="adj3" fmla="val 16667"/>
            </a:avLst>
          </a:prstGeom>
          <a:solidFill>
            <a:srgbClr val="4002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iquidar en Mcdo. Secundario: Máx 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OPTIMIZACIÓN DE PROYECTOS</a:t>
            </a:r>
            <a:endParaRPr b="1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828800"/>
            <a:ext cx="7467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mento óptimo de inici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ópt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mento óptimo de liquidación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Optima de Inver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MOMENTO ÓPTIMO PARA INICIAR UN PROYECTO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447920"/>
            <a:ext cx="746784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ciones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Cambios en la Tasa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Cambios en los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800600"/>
            <a:ext cx="7315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es-ES_tradnl" sz="2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300" spc="-1" strike="noStrike">
                <a:solidFill>
                  <a:srgbClr val="000000"/>
                </a:solidFill>
                <a:latin typeface="Times New Roman"/>
              </a:rPr>
              <a:t>VAN &gt; 0, entonces es conveniente postergar, esto e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3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914400" y="2895480"/>
                <a:ext cx="548640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P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P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1194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990720" y="5334120"/>
                <a:ext cx="66294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Posterga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MOMENTO ÓPTIMO PARA INICIAR UN PROYECTO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447920"/>
            <a:ext cx="8305920" cy="37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 constante (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 Flujos crecientes en el tiem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os beneficios netos del primer año sean igual al costo de capital de la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 constante (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, 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,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146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414440" y="2971800"/>
                <a:ext cx="559584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r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Invertir en periodo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48156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47920" y="5181480"/>
                <a:ext cx="41907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Invertir en el periodo 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 Antiqua"/>
              </a:rPr>
              <a:t>TAMAÑO DE LA INVERSIÓN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62120" y="1600200"/>
            <a:ext cx="7772400" cy="4848840"/>
            <a:chOff x="762120" y="1600200"/>
            <a:chExt cx="7772400" cy="4848840"/>
          </a:xfrm>
        </p:grpSpPr>
        <p:sp>
          <p:nvSpPr>
            <p:cNvPr id="95" name=""/>
            <p:cNvSpPr/>
            <p:nvPr/>
          </p:nvSpPr>
          <p:spPr>
            <a:xfrm>
              <a:off x="762120" y="1600200"/>
              <a:ext cx="7619760" cy="32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quí se puede calcular el VAN marginal, que corresponde al VAN de producir una ampliació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o es equivalente a calcular un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AN  y ver si es mayor o menor que cer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ambién se puede ver (es equivalente), los flujos que genera el diferencial de inversión en el tiemp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VAN  = -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 +    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57600" y="43434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9112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8480" y="4724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(1+r)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3920" y="42670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33920" y="4800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=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14400" y="5257800"/>
              <a:ext cx="7620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odemos entonces para el proyecto marginal, encontrar un TIR marginal, que en el caso límite, será igual al costo de oportunidad del diner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29528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MOMENTO ÓPTIMO DE LIQUIDACIÓN DE UNA INVERSIÓN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76520"/>
            <a:ext cx="83059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quidar y olvidarse: Se debe maximizar el VPN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quidar para reinvertir: Se debe maximizar el BAUE o V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quidar en mercado secundario: Maximizar la 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3276720"/>
          <a:ext cx="4495680" cy="243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76720"/>
                    <a:ext cx="449568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876920" y="4375080"/>
          <a:ext cx="4057560" cy="21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375080"/>
                    <a:ext cx="405756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4876920" y="4375080"/>
          <a:ext cx="4057560" cy="219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4375080"/>
                    <a:ext cx="405756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28600" y="1676520"/>
          <a:ext cx="4495680" cy="2435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4495680" cy="24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29564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MOMENTO ÓPTIMO DE LIQUIDACIÓN DE UNA INVERSIÓN</a:t>
            </a:r>
            <a:endParaRPr b="1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895480"/>
            <a:ext cx="3200400" cy="1067040"/>
          </a:xfrm>
          <a:prstGeom prst="wedgeRoundRectCallout">
            <a:avLst>
              <a:gd name="adj1" fmla="val -27680"/>
              <a:gd name="adj2" fmla="val 136013"/>
              <a:gd name="adj3" fmla="val 16667"/>
            </a:avLst>
          </a:prstGeom>
          <a:solidFill>
            <a:srgbClr val="4002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TIR marginal indica el retorno de un año respecto al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334120"/>
            <a:ext cx="4648320" cy="1295280"/>
          </a:xfrm>
          <a:prstGeom prst="wedgeRoundRectCallout">
            <a:avLst>
              <a:gd name="adj1" fmla="val -10587"/>
              <a:gd name="adj2" fmla="val -255884"/>
              <a:gd name="adj3" fmla="val 16667"/>
            </a:avLst>
          </a:prstGeom>
          <a:solidFill>
            <a:srgbClr val="4002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BAUE del proyecto, repitiendo el proyecto en diferentes períodos, se hace máximo cuando la TIR es máxima o igual a TIRM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343400"/>
            <a:ext cx="4038480" cy="914400"/>
          </a:xfrm>
          <a:prstGeom prst="wedgeRoundRectCallout">
            <a:avLst>
              <a:gd name="adj1" fmla="val -19851"/>
              <a:gd name="adj2" fmla="val -226217"/>
              <a:gd name="adj3" fmla="val 16667"/>
            </a:avLst>
          </a:prstGeom>
          <a:solidFill>
            <a:srgbClr val="4002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N&gt;0 o TIRMg = r, entonces ese debe postergar el c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1600200"/>
            <a:ext cx="4038480" cy="1066680"/>
          </a:xfrm>
          <a:prstGeom prst="wedgeRoundRectCallout">
            <a:avLst>
              <a:gd name="adj1" fmla="val -61046"/>
              <a:gd name="adj2" fmla="val 39879"/>
              <a:gd name="adj3" fmla="val 16667"/>
            </a:avLst>
          </a:prstGeom>
          <a:solidFill>
            <a:srgbClr val="4002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VAN del proyecto liquidando la inversión en cada período, se hace máximo cuando TIRMg =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9072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LOCALIZACIÓN</a:t>
            </a:r>
            <a:endParaRPr b="1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5238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debe realizar un análisis comparativo entre una situación base y otras sit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os factores que se deben tener en cuen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de Transpor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y Disponibilidad de 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rcanía con provee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Ambient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rcanía con los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ff"/>
            </a:gs>
            <a:gs pos="100000">
              <a:srgbClr val="353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295640"/>
          </a:xfrm>
          <a:prstGeom prst="rect">
            <a:avLst/>
          </a:prstGeom>
          <a:solidFill>
            <a:srgbClr val="40029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 Antiqua"/>
              </a:rPr>
              <a:t>SELECCIÓN ENTRE UN SET DE PROYECTOS</a:t>
            </a:r>
            <a:endParaRPr b="1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752480"/>
            <a:ext cx="7772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a vimos que se pueden jerarquizar los proye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importa diferenciar ent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s independie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son aquellos proyectos que no afectan sus flujos unos con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s complementari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pendientes: son proyectos en que la ejecución de uno afecta positivamente los flujos de beneficios netos de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s sustitut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 proyectos en que la ejecución de uno afecta negativamente los flujos de beneficios del o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2:09:27Z</dcterms:created>
  <dc:creator>UNIVERSIDAD DE CHILE</dc:creator>
  <dc:description/>
  <dc:language>en-US</dc:language>
  <cp:lastModifiedBy>Naloxi</cp:lastModifiedBy>
  <dcterms:modified xsi:type="dcterms:W3CDTF">2004-05-17T22:54:57Z</dcterms:modified>
  <cp:revision>19</cp:revision>
  <dc:subject/>
  <dc:title>AUXILIAR PREPARATORIA PARA CONTROL 2</dc:title>
</cp:coreProperties>
</file>